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052-2BD8-4325-B9F6-8E523C48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165-DF56-4F10-92D5-17359359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508-1709-4AF1-91AE-6C46CE8F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D5E-FD45-4DB6-99C3-25B940B7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484-2D48-4751-83EA-8559016B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934-F907-4607-ABBF-BB9EB6CF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909-8BAB-48CA-8EE0-BE4C99AB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813-242C-4CC8-A02B-7CDAA633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8FE-DB67-4F5D-9D24-2D8B387E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876-CA1F-4E5A-B6BC-4A93B553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EC9-2530-47C6-A39D-B13EF0D4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633-04A8-49AB-A638-B171344D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99094-4AA0-485A-BD34-46137EF283B0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85680" y="3495600"/>
            <a:ext cx="2889360" cy="208080"/>
            <a:chOff x="85680" y="3495600"/>
            <a:chExt cx="2889360" cy="208080"/>
          </a:xfrm>
        </p:grpSpPr>
        <p:pic>
          <p:nvPicPr>
            <p:cNvPr id="44" name="Picture 2" descr=""/>
            <p:cNvPicPr/>
            <p:nvPr/>
          </p:nvPicPr>
          <p:blipFill>
            <a:blip r:embed="rId2"/>
            <a:stretch/>
          </p:blipFill>
          <p:spPr>
            <a:xfrm>
              <a:off x="85680" y="3495600"/>
              <a:ext cx="212688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Imagen 6" descr=""/>
            <p:cNvPicPr/>
            <p:nvPr/>
          </p:nvPicPr>
          <p:blipFill>
            <a:blip r:embed="rId3"/>
            <a:stretch/>
          </p:blipFill>
          <p:spPr>
            <a:xfrm>
              <a:off x="2278440" y="3562920"/>
              <a:ext cx="696600" cy="6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3:32:36Z</dcterms:modified>
  <cp:revision>6</cp:revision>
  <dc:subject/>
  <dc:title>PowerPoint Presentation</dc:title>
</cp:coreProperties>
</file>